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5A9-C218-4D5E-B027-EA78F1CD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CAB-0494-42FE-89CA-3BEA150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BB6-B175-4BE5-A36B-6A00586F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A6D-342A-4FBF-BE3D-D689C26F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F1D-C554-489E-858A-F9039555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A28-4484-4F1B-B343-562C528C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619-0F5B-4469-B21B-3969F1B8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B8A-B402-4884-ACC7-C6A4888B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922-25CA-417C-A516-C0BF68F9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467-B070-429C-8401-3B37D1D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B8A-97FE-4193-B981-856AC527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367-421C-4003-9FD8-211D8BE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AB19-7917-449A-B290-BFD2625830D0}" type="slidenum">
              <a:rPr b="0" lang="en-Z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61722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2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Quadratic Functions By Fac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4x +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80880" y="1752480"/>
            <a:ext cx="262728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a + 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03240" y="3306600"/>
            <a:ext cx="158112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16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ight Arrow 5"/>
          <p:cNvSpPr/>
          <p:nvPr/>
        </p:nvSpPr>
        <p:spPr>
          <a:xfrm>
            <a:off x="2743200" y="3606840"/>
            <a:ext cx="1676520" cy="600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tangle 6" descr=""/>
          <p:cNvPicPr/>
          <p:nvPr/>
        </p:nvPicPr>
        <p:blipFill>
          <a:blip r:embed="rId1"/>
          <a:stretch/>
        </p:blipFill>
        <p:spPr>
          <a:xfrm>
            <a:off x="4406760" y="3352680"/>
            <a:ext cx="1933560" cy="1225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360000" y="51246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2ab=24x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860920" y="51246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3x)(4)=2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miley Face 9"/>
          <p:cNvSpPr/>
          <p:nvPr/>
        </p:nvSpPr>
        <p:spPr>
          <a:xfrm>
            <a:off x="5442120" y="7543800"/>
            <a:ext cx="1143000" cy="933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065040" y="640080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-3x)(-4)=2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4124160" y="5753160"/>
            <a:ext cx="7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375480" y="7047000"/>
            <a:ext cx="39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ally, we can wr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3x+4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 14x +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1752480"/>
            <a:ext cx="262728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a + 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903240" y="3306600"/>
            <a:ext cx="183996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4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ight Arrow 5"/>
          <p:cNvSpPr/>
          <p:nvPr/>
        </p:nvSpPr>
        <p:spPr>
          <a:xfrm>
            <a:off x="2743200" y="3606840"/>
            <a:ext cx="1676520" cy="600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Rectangle 6" descr=""/>
          <p:cNvPicPr/>
          <p:nvPr/>
        </p:nvPicPr>
        <p:blipFill>
          <a:blip r:embed="rId1"/>
          <a:stretch/>
        </p:blipFill>
        <p:spPr>
          <a:xfrm>
            <a:off x="4406760" y="3352680"/>
            <a:ext cx="1854360" cy="1225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360360" y="512460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2ab=-14x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3594600" y="512460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7x)(-1)=-1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miley Face 9"/>
          <p:cNvSpPr/>
          <p:nvPr/>
        </p:nvSpPr>
        <p:spPr>
          <a:xfrm>
            <a:off x="5305320" y="7047000"/>
            <a:ext cx="1143000" cy="9349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636720" y="640080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-7x)(1)=-1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4124160" y="5753160"/>
            <a:ext cx="7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7760" y="7526160"/>
            <a:ext cx="41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ally, we can wr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7x-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Words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If the product of two expressions is zero, then one or both of the expressions equals zer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ZERO PRODUCT PROPERT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0" y="49528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Algebra: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 If A and B are expressions and AB = 0, then A = 0 or B = 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39680" y="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Example: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(x + 5)(x + 2) =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94400" y="1752480"/>
            <a:ext cx="57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hen x + 5 = 0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x + 2 =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27280" y="2971800"/>
            <a:ext cx="41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o, x = -5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x = -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41148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ing zeros, solutions, and roots are different ways of saying the same th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s to solving a quadrati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quadratic equal to z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2x=-9           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2x+9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ight Arrow 3"/>
          <p:cNvSpPr/>
          <p:nvPr/>
        </p:nvSpPr>
        <p:spPr>
          <a:xfrm>
            <a:off x="2971800" y="2819520"/>
            <a:ext cx="762120" cy="2746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Placeholder 2"/>
          <p:cNvSpPr/>
          <p:nvPr/>
        </p:nvSpPr>
        <p:spPr>
          <a:xfrm>
            <a:off x="0" y="335268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 out any common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x+3)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Placeholder 2"/>
          <p:cNvSpPr/>
          <p:nvPr/>
        </p:nvSpPr>
        <p:spPr>
          <a:xfrm>
            <a:off x="0" y="45720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actors of 3 that add to 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, 1            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3, -1            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ight Arrow 6"/>
          <p:cNvSpPr/>
          <p:nvPr/>
        </p:nvSpPr>
        <p:spPr>
          <a:xfrm>
            <a:off x="2019240" y="5211720"/>
            <a:ext cx="762120" cy="2746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Arrow 7"/>
          <p:cNvSpPr/>
          <p:nvPr/>
        </p:nvSpPr>
        <p:spPr>
          <a:xfrm>
            <a:off x="2019240" y="5761080"/>
            <a:ext cx="762120" cy="2746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04920" y="5562720"/>
            <a:ext cx="3429000" cy="5713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Placeholder 2"/>
          <p:cNvSpPr/>
          <p:nvPr/>
        </p:nvSpPr>
        <p:spPr>
          <a:xfrm>
            <a:off x="-76320" y="61722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rite the quadratic as a product of binomi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(x-3)(x-1)=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0" y="7467480"/>
            <a:ext cx="685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=3 and x=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Straight Arrow Connector 12"/>
          <p:cNvCxnSpPr/>
          <p:nvPr/>
        </p:nvCxnSpPr>
        <p:spPr>
          <a:xfrm flipH="1" flipV="1">
            <a:off x="2590200" y="4190400"/>
            <a:ext cx="1448280" cy="533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13"/>
          <p:cNvCxnSpPr/>
          <p:nvPr/>
        </p:nvCxnSpPr>
        <p:spPr>
          <a:xfrm flipH="1" flipV="1">
            <a:off x="2133000" y="4419000"/>
            <a:ext cx="4229640" cy="533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" y="-360"/>
            <a:ext cx="61722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-38160" y="1736640"/>
            <a:ext cx="6821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Monomial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an expression that has only one ter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-27000" y="4199040"/>
            <a:ext cx="6889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500" spc="-1" strike="noStrike" u="sng">
                <a:solidFill>
                  <a:srgbClr val="0070c0"/>
                </a:solidFill>
                <a:uFillTx/>
                <a:latin typeface="Comic Sans MS"/>
              </a:rPr>
              <a:t>Binomial</a:t>
            </a:r>
            <a:r>
              <a:rPr b="0" lang="en-US" sz="35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of two monomials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-38160" y="7176960"/>
            <a:ext cx="7277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omic Sans MS"/>
              </a:rPr>
              <a:t>Trinomial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ree monomi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941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mono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mean as a prefix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-74520" y="382752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What does 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bi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mean as a prefix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54000" y="6367320"/>
            <a:ext cx="68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r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n as a prefi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219320" y="3048120"/>
            <a:ext cx="4424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5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 -2x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33520" y="5718240"/>
            <a:ext cx="51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70c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-2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x+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66120" y="8218440"/>
            <a:ext cx="38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b05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-2x+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0" y="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can us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ori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write a trinomial as a product of binomi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9360" y="3828600"/>
            <a:ext cx="68580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factor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bx + c, find the integers m and n such that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560160" y="496260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b = m + 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640" y="66862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 + bx + c = (x + m)(x + 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pt-BR" sz="3600" spc="-1" strike="noStrike">
                <a:solidFill>
                  <a:srgbClr val="0070c0"/>
                </a:solidFill>
                <a:latin typeface="Comic Sans MS"/>
              </a:rPr>
              <a:t>(</a:t>
            </a:r>
            <a:r>
              <a:rPr b="1" lang="pt-BR" sz="3600" spc="-1" strike="noStrike">
                <a:solidFill>
                  <a:srgbClr val="0070c0"/>
                </a:solidFill>
                <a:latin typeface="Comic Sans MS"/>
              </a:rPr>
              <a:t>m + n</a:t>
            </a:r>
            <a:r>
              <a:rPr b="0" lang="pt-BR" sz="3600" spc="-1" strike="noStrike">
                <a:solidFill>
                  <a:srgbClr val="0070c0"/>
                </a:solidFill>
                <a:latin typeface="Comic Sans MS"/>
              </a:rPr>
              <a:t>) </a:t>
            </a: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x +</a:t>
            </a:r>
            <a:r>
              <a:rPr b="1" lang="pt-BR" sz="3600" spc="-1" strike="noStrike">
                <a:solidFill>
                  <a:srgbClr val="c00000"/>
                </a:solidFill>
                <a:latin typeface="Comic Sans MS"/>
              </a:rPr>
              <a:t>m</a:t>
            </a:r>
            <a:r>
              <a:rPr b="1" lang="pt-BR" sz="3600" spc="-1" strike="noStrike">
                <a:solidFill>
                  <a:srgbClr val="c00000"/>
                </a:solidFill>
                <a:latin typeface="Symbol"/>
                <a:ea typeface="Symbol"/>
              </a:rPr>
              <a:t></a:t>
            </a:r>
            <a:r>
              <a:rPr b="1" lang="pt-BR" sz="3600" spc="-1" strike="noStrike">
                <a:solidFill>
                  <a:srgbClr val="c000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62000" y="5867280"/>
            <a:ext cx="3876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we can s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-9360" y="1523880"/>
            <a:ext cx="6858000" cy="228600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means we are going to take an expression with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erms and write it as th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expressions with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er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114720" y="49626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c = m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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11"/>
          <p:cNvCxnSpPr/>
          <p:nvPr/>
        </p:nvCxnSpPr>
        <p:spPr>
          <a:xfrm flipV="1">
            <a:off x="2100240" y="4190760"/>
            <a:ext cx="1024560" cy="1095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60" name="Straight Arrow Connector 13"/>
          <p:cNvCxnSpPr/>
          <p:nvPr/>
        </p:nvCxnSpPr>
        <p:spPr>
          <a:xfrm flipH="1" flipV="1">
            <a:off x="4343040" y="4190760"/>
            <a:ext cx="915120" cy="1086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ING INTO BINOM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407880" y="1905120"/>
            <a:ext cx="2781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9x + 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extBox 7" descr=""/>
          <p:cNvPicPr/>
          <p:nvPr/>
        </p:nvPicPr>
        <p:blipFill>
          <a:blip r:embed="rId1"/>
          <a:stretch/>
        </p:blipFill>
        <p:spPr>
          <a:xfrm>
            <a:off x="36360" y="2554200"/>
            <a:ext cx="6242040" cy="828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0" y="37274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, 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, 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,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1, -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-2, -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-4, 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9" descr=""/>
          <p:cNvPicPr/>
          <p:nvPr/>
        </p:nvPicPr>
        <p:blipFill>
          <a:blip r:embed="rId2"/>
          <a:stretch/>
        </p:blipFill>
        <p:spPr>
          <a:xfrm>
            <a:off x="-219240" y="4791240"/>
            <a:ext cx="7150320" cy="85392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11"/>
          <p:cNvCxnSpPr>
            <a:endCxn id="62" idx="3"/>
          </p:cNvCxnSpPr>
          <p:nvPr/>
        </p:nvCxnSpPr>
        <p:spPr>
          <a:xfrm flipH="1" flipV="1">
            <a:off x="3188520" y="2285640"/>
            <a:ext cx="2297880" cy="381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" name="Straight Arrow Connector 12"/>
          <p:cNvCxnSpPr/>
          <p:nvPr/>
        </p:nvCxnSpPr>
        <p:spPr>
          <a:xfrm flipH="1" flipV="1">
            <a:off x="1798200" y="2476080"/>
            <a:ext cx="4007520" cy="26424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8" name="Oval 14"/>
          <p:cNvSpPr/>
          <p:nvPr/>
        </p:nvSpPr>
        <p:spPr>
          <a:xfrm>
            <a:off x="5486400" y="3727440"/>
            <a:ext cx="914400" cy="6001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481320" y="594360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+4)(x+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ING INTO BINOM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07880" y="1905120"/>
            <a:ext cx="2781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4x -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TextBox 7" descr=""/>
          <p:cNvPicPr/>
          <p:nvPr/>
        </p:nvPicPr>
        <p:blipFill>
          <a:blip r:embed="rId1"/>
          <a:stretch/>
        </p:blipFill>
        <p:spPr>
          <a:xfrm>
            <a:off x="36360" y="2554200"/>
            <a:ext cx="6394680" cy="828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0" y="37274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, -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, -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, -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1,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, 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3,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9" descr=""/>
          <p:cNvPicPr/>
          <p:nvPr/>
        </p:nvPicPr>
        <p:blipFill>
          <a:blip r:embed="rId2"/>
          <a:stretch/>
        </p:blipFill>
        <p:spPr>
          <a:xfrm>
            <a:off x="-219240" y="4791240"/>
            <a:ext cx="7150320" cy="85392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11"/>
          <p:cNvCxnSpPr>
            <a:endCxn id="71" idx="3"/>
          </p:cNvCxnSpPr>
          <p:nvPr/>
        </p:nvCxnSpPr>
        <p:spPr>
          <a:xfrm flipH="1" flipV="1">
            <a:off x="3188520" y="2285640"/>
            <a:ext cx="2297880" cy="381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 flipH="1" flipV="1">
            <a:off x="1798200" y="2476080"/>
            <a:ext cx="4007520" cy="26424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7" name="Oval 14"/>
          <p:cNvSpPr/>
          <p:nvPr/>
        </p:nvSpPr>
        <p:spPr>
          <a:xfrm>
            <a:off x="2811600" y="4327560"/>
            <a:ext cx="1303200" cy="6001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24520" y="594360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-2)(x+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ACTORING MONOMIALS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31040" y="198108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TTE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3897720" y="19810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994800" y="2817720"/>
            <a:ext cx="29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5x</a:t>
            </a:r>
            <a:r>
              <a:rPr b="1" lang="en-US" sz="3600" spc="-1" strike="noStrike" baseline="30000">
                <a:solidFill>
                  <a:srgbClr val="ff33cc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+20=5(x</a:t>
            </a:r>
            <a:r>
              <a:rPr b="1" lang="en-US" sz="3600" spc="-1" strike="noStrike" baseline="30000">
                <a:solidFill>
                  <a:srgbClr val="ff33cc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+4</a:t>
            </a:r>
            <a:r>
              <a:rPr b="0" lang="en-US" sz="3600" spc="-1" strike="noStrike">
                <a:solidFill>
                  <a:srgbClr val="ff33cc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tangle 6" descr=""/>
          <p:cNvPicPr/>
          <p:nvPr/>
        </p:nvPicPr>
        <p:blipFill>
          <a:blip r:embed="rId1"/>
          <a:stretch/>
        </p:blipFill>
        <p:spPr>
          <a:xfrm>
            <a:off x="-3664080" y="2395440"/>
            <a:ext cx="3475080" cy="84132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2"/>
          <a:stretch/>
        </p:blipFill>
        <p:spPr>
          <a:xfrm>
            <a:off x="-3809880" y="3456000"/>
            <a:ext cx="376704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7190280" y="4259160"/>
            <a:ext cx="36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alibri"/>
              </a:rPr>
              <a:t>2x</a:t>
            </a:r>
            <a:r>
              <a:rPr b="1" lang="en-US" sz="3600" spc="-1" strike="noStrike" baseline="30000">
                <a:solidFill>
                  <a:srgbClr val="66ccf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66ccff"/>
                </a:solidFill>
                <a:latin typeface="Calibri"/>
              </a:rPr>
              <a:t> + 8x = 2x(x + 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-5730840" y="7451640"/>
            <a:ext cx="54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+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x +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c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(x + m)(x + 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6819840" y="7620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5x</a:t>
            </a:r>
            <a:r>
              <a:rPr b="1" lang="en-US" sz="3600" spc="-1" strike="noStrike" baseline="30000">
                <a:solidFill>
                  <a:srgbClr val="92d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– 5x – 10 = 5(x</a:t>
            </a:r>
            <a:r>
              <a:rPr b="1" lang="en-US" sz="3600" spc="-1" strike="noStrike" baseline="30000">
                <a:solidFill>
                  <a:srgbClr val="92d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– x – 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=5(x-2)(x+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11" descr=""/>
          <p:cNvPicPr/>
          <p:nvPr/>
        </p:nvPicPr>
        <p:blipFill>
          <a:blip r:embed="rId3"/>
          <a:stretch/>
        </p:blipFill>
        <p:spPr>
          <a:xfrm>
            <a:off x="-5662440" y="4602240"/>
            <a:ext cx="5284440" cy="907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6998400" y="554508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17ed8"/>
                </a:solidFill>
                <a:latin typeface="Calibri"/>
              </a:rPr>
              <a:t>6x</a:t>
            </a:r>
            <a:r>
              <a:rPr b="1" lang="en-US" sz="3600" spc="-1" strike="noStrike" baseline="30000">
                <a:solidFill>
                  <a:srgbClr val="b17ed8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b17ed8"/>
                </a:solidFill>
                <a:latin typeface="Calibri"/>
              </a:rPr>
              <a:t> + 6x – 18 = 6(x</a:t>
            </a:r>
            <a:r>
              <a:rPr b="1" lang="en-US" sz="3600" spc="-1" strike="noStrike" baseline="30000">
                <a:solidFill>
                  <a:srgbClr val="b17ed8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b17ed8"/>
                </a:solidFill>
                <a:latin typeface="Calibri"/>
              </a:rPr>
              <a:t> + x – 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6296E-006 2.77778E-007 L 0.54746 0.00851 E">
                                      <p:cBhvr>
                                        <p:cTn id="1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6 -0.00173 L -0.51018 -0.00173 E">
                                      <p:cBhvr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834 L 0.55996 0.00521 E">
                                      <p:cBhvr>
                                        <p:cTn id="17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40741E-007 5E-006 L -0.59375 -0.00313 E">
                                      <p:cBhvr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806 0.05538 L 0.81806 0.05538 E">
                                      <p:cBhvr>
                                        <p:cTn id="18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491 0.04149 L -0.85047 0.04149 E">
                                      <p:cBhvr>
                                        <p:cTn id="18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22 -0.07708 L 0.83634 -0.07621 E">
                                      <p:cBhvr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6 -0.01563 L -0.78333 -0.01563 E">
                                      <p:cBhvr>
                                        <p:cTn id="19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GOAL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Factor what is in common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the term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0" y="282564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8y</a:t>
            </a:r>
            <a:r>
              <a:rPr b="0" lang="es-E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 – 28y – 6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325400" y="282564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s-E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 + 7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198160" y="167652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y the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PECIAL FACTORING PATTERN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6" descr=""/>
          <p:cNvPicPr/>
          <p:nvPr/>
        </p:nvPicPr>
        <p:blipFill>
          <a:blip r:embed="rId1"/>
          <a:stretch/>
        </p:blipFill>
        <p:spPr>
          <a:xfrm>
            <a:off x="-49320" y="2054160"/>
            <a:ext cx="1347840" cy="221292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7" descr=""/>
          <p:cNvPicPr/>
          <p:nvPr/>
        </p:nvPicPr>
        <p:blipFill>
          <a:blip r:embed="rId2"/>
          <a:stretch/>
        </p:blipFill>
        <p:spPr>
          <a:xfrm>
            <a:off x="79200" y="4211640"/>
            <a:ext cx="792360" cy="22129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8" descr=""/>
          <p:cNvPicPr/>
          <p:nvPr/>
        </p:nvPicPr>
        <p:blipFill>
          <a:blip r:embed="rId3"/>
          <a:stretch/>
        </p:blipFill>
        <p:spPr>
          <a:xfrm>
            <a:off x="49320" y="6784920"/>
            <a:ext cx="792000" cy="2335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1239840" y="208908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Difference of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Two Squa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63640" y="4433760"/>
            <a:ext cx="2857320" cy="119124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– y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= (x + y)(x – 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63640" y="7472520"/>
            <a:ext cx="2851200" cy="119124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x + 3)(x– 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032360" y="6742080"/>
            <a:ext cx="272232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12x + 36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x + 6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032360" y="3906720"/>
            <a:ext cx="262728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a + 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852000" y="208908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Perfect Squ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Tr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320" y="1868040"/>
            <a:ext cx="171432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-2489400" y="43434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S WITH SPECIAL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14440" y="2838600"/>
            <a:ext cx="2819160" cy="119124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– y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= (x + y)(x – 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486960" y="624852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(x + 10)(x – 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25000" y="55720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6219720"/>
            <a:ext cx="13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 =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 =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638960" y="174456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6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422600" y="2390760"/>
            <a:ext cx="21304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871880" y="4619520"/>
            <a:ext cx="19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 =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 =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605480" y="3419640"/>
            <a:ext cx="19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25800" y="772308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(x + 4)(x – 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4125 3.33333E-006 E">
                                      <p:cBhvr>
                                        <p:cTn id="27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22:20:40Z</dcterms:created>
  <dc:creator>Valued Acer Customer</dc:creator>
  <dc:description/>
  <dc:language>en-US</dc:language>
  <cp:lastModifiedBy>sraja</cp:lastModifiedBy>
  <dcterms:modified xsi:type="dcterms:W3CDTF">2010-12-06T16:57:09Z</dcterms:modified>
  <cp:revision>44</cp:revision>
  <dc:subject/>
  <dc:title>PowerPoint Presentation</dc:title>
</cp:coreProperties>
</file>